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media/image12.wmf" ContentType="image/x-wmf"/>
  <Override PartName="/ppt/media/image9.png" ContentType="image/png"/>
  <Override PartName="/ppt/media/image8.wmf" ContentType="image/x-wmf"/>
  <Override PartName="/ppt/media/chimes.wav" ContentType="audio/x-wav"/>
  <Override PartName="/ppt/media/image16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18.jpeg" ContentType="image/jpeg"/>
  <Override PartName="/ppt/media/image17.png" ContentType="image/png"/>
  <Override PartName="/ppt/media/image15.png" ContentType="image/png"/>
  <Override PartName="/ppt/media/image14.wmf" ContentType="image/x-wmf"/>
  <Override PartName="/ppt/media/explode.wav" ContentType="audio/x-wav"/>
  <Override PartName="/ppt/media/image13.wmf" ContentType="image/x-wmf"/>
  <Override PartName="/ppt/media/carbrake.wav" ContentType="audio/x-wav"/>
  <Override PartName="/ppt/media/image1.jpeg" ContentType="image/jpeg"/>
  <Override PartName="/ppt/media/image4.wmf" ContentType="image/x-wmf"/>
  <Override PartName="/ppt/media/image5.wmf" ContentType="image/x-wmf"/>
  <Override PartName="/ppt/media/glass.wav" ContentType="audio/x-wav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7789-ED26-432E-8572-31C18AB8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4249-8DE8-4CBB-91D2-7899E01D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EBFB-DFB4-4B04-9AF8-789F0CE9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612-0826-47ED-BEE6-CA5AC6F1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795D-F629-4DD6-B172-55EC49AF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7AC0-6748-4B4F-992B-2D81AE4F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2911-266F-4CAF-A103-211F5CC6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A182-6971-4266-B956-3E259A21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7AA9-B7EF-495E-AE20-8AEE2502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8234-DA17-464A-AE19-B4A1E270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66D4-79CE-48BA-AF8A-2DA3872B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FB93-BDD9-4B77-A23D-7CF9585A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0F3C-06E3-491C-9630-E54158F1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F3C7-9AF6-47D4-8945-B97F1474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FC63-A0E0-49BE-930C-26C9D2CB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3A8D-9529-4203-B818-FDB733A3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0D0C-AD5A-49C2-A803-A6D4489A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77B3-7748-4593-A0D5-60810C87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3322-C496-4AB8-88C4-B8172353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971C-2E50-4C54-824D-CA913CBE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7F92-42CC-4425-9858-0B244DF2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5E8C-3178-447A-B855-98B184DF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EBF5-5C3B-40A7-9347-BD54F9F7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5323-239E-4ADC-BF76-76B1AD9D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D227-B88D-4665-A2B5-AB9F08BE20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799B-D020-4676-B21D-D94D5183A1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image" Target="../media/image9.png"/><Relationship Id="rId14" Type="http://schemas.openxmlformats.org/officeDocument/2006/relationships/image" Target="../media/image4.wmf"/><Relationship Id="rId15" Type="http://schemas.openxmlformats.org/officeDocument/2006/relationships/image" Target="../media/image10.wmf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403280" y="2781360"/>
            <a:ext cx="5477040" cy="21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算术平方根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42920" y="476280"/>
            <a:ext cx="91440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6.1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627280" y="404640"/>
            <a:ext cx="3240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平方根（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-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）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763120" cy="5029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5181480"/>
            <a:ext cx="9144000" cy="1676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848560" y="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095880" y="914400"/>
                <a:ext cx="89064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6248520" y="190512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0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91560" y="35053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867280" y="4143240"/>
                <a:ext cx="12956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505160" y="54864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541008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305760" y="5029200"/>
            <a:ext cx="529560" cy="1329840"/>
            <a:chOff x="6305760" y="5029200"/>
            <a:chExt cx="529560" cy="1329840"/>
          </a:xfrm>
        </p:grpSpPr>
        <p:sp>
          <p:nvSpPr>
            <p:cNvPr id="169" name=""/>
            <p:cNvSpPr/>
            <p:nvPr/>
          </p:nvSpPr>
          <p:spPr>
            <a:xfrm>
              <a:off x="6305760" y="50292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05760" y="55339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24480" y="5749920"/>
              <a:ext cx="503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8287200" y="55627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852640"/>
            <a:ext cx="82296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5634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练习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各式中哪些有意义？哪些无意义？为什么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251000" y="1413000"/>
                <a:ext cx="62816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;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;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;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57200" y="254484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有意义的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4419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意义的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286000" y="3200400"/>
                <a:ext cx="8002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562200" y="3289320"/>
                <a:ext cx="10098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105520" y="3276720"/>
                <a:ext cx="12952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858000" y="3276720"/>
                <a:ext cx="10666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733920" y="4419720"/>
                <a:ext cx="10094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791320" y="4711680"/>
            <a:ext cx="335268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4920" y="53352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明房间的面积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.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平方米，房间地面恰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相同的正方形地砖铺成，问每块地砖的边长是多少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3200400"/>
            <a:ext cx="770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：设每块地砖的边长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由题意得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895480" y="3855960"/>
                <a:ext cx="358164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590920" y="4962600"/>
                <a:ext cx="3352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6019920" y="502920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米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579132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答：每块的地砖的边长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486080" y="2906640"/>
            <a:ext cx="6325920" cy="16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今天你收获了什么？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24000" y="333360"/>
            <a:ext cx="7056360" cy="2557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总结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可以取任何数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、   是什么数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900000" y="1125360"/>
            <a:ext cx="6265440" cy="581400"/>
            <a:chOff x="900000" y="1125360"/>
            <a:chExt cx="6265440" cy="581400"/>
          </a:xfrm>
        </p:grpSpPr>
        <p:sp>
          <p:nvSpPr>
            <p:cNvPr id="194" name=""/>
            <p:cNvSpPr/>
            <p:nvPr/>
          </p:nvSpPr>
          <p:spPr>
            <a:xfrm>
              <a:off x="900000" y="1125360"/>
              <a:ext cx="5307120" cy="581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被开方数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是非负数，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6133680" y="1125360"/>
                  <a:ext cx="10317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6" name=""/>
          <p:cNvGrpSpPr/>
          <p:nvPr/>
        </p:nvGrpSpPr>
        <p:grpSpPr>
          <a:xfrm>
            <a:off x="900000" y="1773360"/>
            <a:ext cx="5159160" cy="609480"/>
            <a:chOff x="900000" y="1773360"/>
            <a:chExt cx="5159160" cy="609480"/>
          </a:xfrm>
        </p:grpSpPr>
        <p:sp>
          <p:nvSpPr>
            <p:cNvPr id="197" name=""/>
            <p:cNvSpPr/>
            <p:nvPr/>
          </p:nvSpPr>
          <p:spPr>
            <a:xfrm>
              <a:off x="900000" y="1773360"/>
              <a:ext cx="4597200" cy="581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     是非负数，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1789560" y="1803240"/>
                  <a:ext cx="593280" cy="57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4903560" y="1773360"/>
                  <a:ext cx="1155600" cy="57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0" name=""/>
          <p:cNvGrpSpPr/>
          <p:nvPr/>
        </p:nvGrpSpPr>
        <p:grpSpPr>
          <a:xfrm>
            <a:off x="0" y="2924280"/>
            <a:ext cx="8381880" cy="947160"/>
            <a:chOff x="0" y="2924280"/>
            <a:chExt cx="8381880" cy="947160"/>
          </a:xfrm>
        </p:grpSpPr>
        <p:sp>
          <p:nvSpPr>
            <p:cNvPr id="201" name=""/>
            <p:cNvSpPr/>
            <p:nvPr/>
          </p:nvSpPr>
          <p:spPr>
            <a:xfrm>
              <a:off x="0" y="2924280"/>
              <a:ext cx="838188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也就是说，非负数的“算术”平方根是非负数。负数不存在算术平方根，即当                              无意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4606560" y="3270240"/>
                  <a:ext cx="1379160" cy="56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时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6476760" y="3332160"/>
                  <a:ext cx="533160" cy="50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4" name=""/>
          <p:cNvGrpSpPr/>
          <p:nvPr/>
        </p:nvGrpSpPr>
        <p:grpSpPr>
          <a:xfrm>
            <a:off x="152280" y="3962520"/>
            <a:ext cx="8382240" cy="558720"/>
            <a:chOff x="152280" y="3962520"/>
            <a:chExt cx="8382240" cy="558720"/>
          </a:xfrm>
        </p:grpSpPr>
        <p:sp>
          <p:nvSpPr>
            <p:cNvPr id="205" name=""/>
            <p:cNvSpPr/>
            <p:nvPr/>
          </p:nvSpPr>
          <p:spPr>
            <a:xfrm>
              <a:off x="152280" y="3962520"/>
              <a:ext cx="83822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如：        无意义  ；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是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算术平方根或                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838080" y="3962520"/>
                  <a:ext cx="838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6934320" y="3962520"/>
                  <a:ext cx="125712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e>
                      </m:rad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389720" y="0"/>
            <a:ext cx="1725840" cy="2362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619280" y="333360"/>
                <a:ext cx="7621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826920" y="2276640"/>
                <a:ext cx="76212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《课堂十分钟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63160" y="76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堂清检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447920" y="1447920"/>
            <a:ext cx="5562000" cy="3580920"/>
            <a:chOff x="1447920" y="1447920"/>
            <a:chExt cx="5562000" cy="3580920"/>
          </a:xfrm>
        </p:grpSpPr>
        <p:grpSp>
          <p:nvGrpSpPr>
            <p:cNvPr id="214" name=""/>
            <p:cNvGrpSpPr/>
            <p:nvPr/>
          </p:nvGrpSpPr>
          <p:grpSpPr>
            <a:xfrm>
              <a:off x="1447920" y="1447920"/>
              <a:ext cx="5562000" cy="3580920"/>
              <a:chOff x="1447920" y="1447920"/>
              <a:chExt cx="5562000" cy="3580920"/>
            </a:xfrm>
          </p:grpSpPr>
          <p:pic>
            <p:nvPicPr>
              <p:cNvPr id="21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47920" y="1447920"/>
                <a:ext cx="5562000" cy="358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"/>
              <p:cNvSpPr/>
              <p:nvPr/>
            </p:nvSpPr>
            <p:spPr>
              <a:xfrm>
                <a:off x="3434040" y="2641680"/>
                <a:ext cx="3442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Times New Roman"/>
                    <a:ea typeface="华文行楷"/>
                  </a:rPr>
                  <a:t>作业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055760" y="3178080"/>
              <a:ext cx="191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P47 1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、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191120" y="35053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35812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143000" y="609480"/>
            <a:ext cx="5257800" cy="184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祝学习快乐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、理解算术平方根的概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、正确求出非负数的算术平方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自学指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认真看课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0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4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练习，注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通过看课本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P40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的问题了解算术平方根的概念，并理解算术平方根的非负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正确理解符号          的意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会求一个数的算术平方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注意例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的解题步骤和格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钟后进行检测，比一比，谁学的最好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564000" y="3500280"/>
                <a:ext cx="718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27"/>
          <p:cNvSpPr/>
          <p:nvPr/>
        </p:nvSpPr>
        <p:spPr>
          <a:xfrm>
            <a:off x="395280" y="5516640"/>
            <a:ext cx="7858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如，由于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算术平方根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1640" y="4149720"/>
            <a:ext cx="8101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规定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算术平方根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也就是说，若　　　　　　，则　　　　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横卷形 20"/>
          <p:cNvSpPr/>
          <p:nvPr/>
        </p:nvSpPr>
        <p:spPr>
          <a:xfrm>
            <a:off x="0" y="1052640"/>
            <a:ext cx="8429760" cy="36003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9280" y="1483920"/>
            <a:ext cx="9361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地，如果一个正数  的平方等于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即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那么这个正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叫做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算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平方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2"/>
          <a:stretch/>
        </p:blipFill>
        <p:spPr>
          <a:xfrm>
            <a:off x="873000" y="4724280"/>
            <a:ext cx="2619360" cy="714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1042920" y="2133720"/>
            <a:ext cx="1309680" cy="625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4"/>
          <a:stretch/>
        </p:blipFill>
        <p:spPr>
          <a:xfrm>
            <a:off x="5076720" y="2205000"/>
            <a:ext cx="433440" cy="500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5"/>
          <a:stretch/>
        </p:blipFill>
        <p:spPr>
          <a:xfrm>
            <a:off x="5869080" y="2836800"/>
            <a:ext cx="571320" cy="549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6"/>
          <a:stretch/>
        </p:blipFill>
        <p:spPr>
          <a:xfrm>
            <a:off x="1868400" y="3630600"/>
            <a:ext cx="371520" cy="428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7"/>
          <a:stretch/>
        </p:blipFill>
        <p:spPr>
          <a:xfrm>
            <a:off x="8028000" y="1700280"/>
            <a:ext cx="371520" cy="428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8"/>
          <a:stretch/>
        </p:blipFill>
        <p:spPr>
          <a:xfrm>
            <a:off x="6372360" y="2205000"/>
            <a:ext cx="371520" cy="428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9"/>
          <a:stretch/>
        </p:blipFill>
        <p:spPr>
          <a:xfrm>
            <a:off x="3017880" y="3630600"/>
            <a:ext cx="371520" cy="428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10"/>
          <a:stretch/>
        </p:blipFill>
        <p:spPr>
          <a:xfrm>
            <a:off x="2239920" y="2968560"/>
            <a:ext cx="371520" cy="428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"/>
          <p:cNvPicPr/>
          <p:nvPr/>
        </p:nvPicPr>
        <p:blipFill>
          <a:blip r:embed="rId11"/>
          <a:stretch/>
        </p:blipFill>
        <p:spPr>
          <a:xfrm>
            <a:off x="2560680" y="5589720"/>
            <a:ext cx="1290600" cy="531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"/>
          <p:cNvPicPr/>
          <p:nvPr/>
        </p:nvPicPr>
        <p:blipFill>
          <a:blip r:embed="rId12"/>
          <a:stretch/>
        </p:blipFill>
        <p:spPr>
          <a:xfrm>
            <a:off x="900000" y="6097680"/>
            <a:ext cx="1333440" cy="571320"/>
          </a:xfrm>
          <a:prstGeom prst="rect">
            <a:avLst/>
          </a:prstGeom>
          <a:ln w="0">
            <a:noFill/>
          </a:ln>
        </p:spPr>
      </p:pic>
      <p:sp>
        <p:nvSpPr>
          <p:cNvPr id="106" name="矩形 19"/>
          <p:cNvSpPr/>
          <p:nvPr/>
        </p:nvSpPr>
        <p:spPr>
          <a:xfrm>
            <a:off x="538200" y="476280"/>
            <a:ext cx="280980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总结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图片 6" descr="tb.png"/>
          <p:cNvPicPr/>
          <p:nvPr/>
        </p:nvPicPr>
        <p:blipFill>
          <a:blip r:embed="rId13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8" name=""/>
          <p:cNvSpPr/>
          <p:nvPr/>
        </p:nvSpPr>
        <p:spPr>
          <a:xfrm>
            <a:off x="324000" y="2692440"/>
            <a:ext cx="87138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算术平方根记为   ，读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号   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叫做被开方数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4"/>
          <a:stretch/>
        </p:blipFill>
        <p:spPr>
          <a:xfrm>
            <a:off x="5580000" y="1704960"/>
            <a:ext cx="433440" cy="500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5"/>
          <a:srcRect l="38929" t="0" r="0" b="0"/>
          <a:stretch/>
        </p:blipFill>
        <p:spPr>
          <a:xfrm>
            <a:off x="4211640" y="4724280"/>
            <a:ext cx="1511280" cy="7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课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页练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求下列各数的算术平方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1)0.0025     (2)81    (3)3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求下列各式的值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                    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                   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979640" y="4076640"/>
                <a:ext cx="504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 txBox="1"/>
          <p:nvPr/>
        </p:nvSpPr>
        <p:spPr>
          <a:xfrm>
            <a:off x="2843280" y="692280"/>
            <a:ext cx="2736720" cy="67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检测（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-</a:t>
            </a: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）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716360" y="3789360"/>
                <a:ext cx="7286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7308720" y="4076640"/>
                <a:ext cx="719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²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2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面积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平方厘米的正方形边长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算术平方根是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记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_____=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面积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平方厘米的正方形边长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708360" y="3789360"/>
                <a:ext cx="576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 txBox="1"/>
          <p:nvPr/>
        </p:nvSpPr>
        <p:spPr>
          <a:xfrm>
            <a:off x="2843280" y="692280"/>
            <a:ext cx="2736720" cy="67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检测（二）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386064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16200" y="4960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692360" y="4941720"/>
                <a:ext cx="863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2463840" y="5013360"/>
            <a:ext cx="24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厘米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33360"/>
            <a:ext cx="9448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填空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算术平方根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算术平方根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算术平方根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算术平方根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算术平方根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   的算术平方根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8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算术平方根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076720" y="3429000"/>
                <a:ext cx="55584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55640" y="2060640"/>
                <a:ext cx="6238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4211640" y="907920"/>
            <a:ext cx="6094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140360" y="1557360"/>
                <a:ext cx="5713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140360" y="1989000"/>
                <a:ext cx="3762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4141800" y="2781360"/>
            <a:ext cx="358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211640" y="3500280"/>
                <a:ext cx="4698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8244000" y="3141720"/>
                <a:ext cx="4572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067280" y="4149720"/>
                <a:ext cx="730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177040" y="5791320"/>
            <a:ext cx="887760" cy="990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3276720" y="2602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检测（三）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320" y="318960"/>
            <a:ext cx="906768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      的算术平方根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008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算术平方根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算术平方根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22400" y="76320"/>
                <a:ext cx="111132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066680" y="1716120"/>
                <a:ext cx="9907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-76320" y="2514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说下列各式所表示的意义，并分别求出它们的值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2432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901800" y="3170160"/>
                <a:ext cx="938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44053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990720" y="4272120"/>
                <a:ext cx="677880" cy="90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43005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124080"/>
            <a:ext cx="6477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3214800"/>
            <a:ext cx="86360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算术平方根，等于           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8244000" y="3284640"/>
                <a:ext cx="50616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9" name=""/>
          <p:cNvGrpSpPr/>
          <p:nvPr/>
        </p:nvGrpSpPr>
        <p:grpSpPr>
          <a:xfrm>
            <a:off x="2133720" y="4038480"/>
            <a:ext cx="6629400" cy="990720"/>
            <a:chOff x="2133720" y="4038480"/>
            <a:chExt cx="6629400" cy="990720"/>
          </a:xfrm>
        </p:grpSpPr>
        <p:sp>
          <p:nvSpPr>
            <p:cNvPr id="150" name=""/>
            <p:cNvSpPr/>
            <p:nvPr/>
          </p:nvSpPr>
          <p:spPr>
            <a:xfrm>
              <a:off x="2133720" y="4343400"/>
              <a:ext cx="662940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：表示       的算术平方根，等于       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3352680" y="4114800"/>
                  <a:ext cx="47304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7159680" y="4038480"/>
                  <a:ext cx="38412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643280" y="0"/>
                <a:ext cx="424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4573080" y="836640"/>
            <a:ext cx="8038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211640" y="1628640"/>
                <a:ext cx="6080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109000" y="5715000"/>
            <a:ext cx="955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556000" y="1197000"/>
            <a:ext cx="4176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检测（四）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657600" y="3573360"/>
            <a:ext cx="1828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加油哦！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2T13:17:00Z</dcterms:created>
  <dc:creator>User</dc:creator>
  <dc:description/>
  <dc:language>en-US</dc:language>
  <cp:lastModifiedBy>User</cp:lastModifiedBy>
  <dcterms:modified xsi:type="dcterms:W3CDTF">2014-08-22T08:31:39Z</dcterms:modified>
  <cp:revision>87</cp:revision>
  <dc:subject/>
  <dc:title>PowerPoint 演示文稿</dc:title>
</cp:coreProperties>
</file>